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8.wmf" ContentType="image/x-wmf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1.jpeg" ContentType="image/jpeg"/>
  <Override PartName="/ppt/media/image4.gif" ContentType="image/gif"/>
  <Override PartName="/ppt/media/image22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3.gif" ContentType="image/gif"/>
  <Override PartName="/ppt/media/image24.png" ContentType="image/png"/>
  <Override PartName="/ppt/media/image1.png" ContentType="image/png"/>
  <Override PartName="/ppt/media/image25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01C-C16B-4DC1-954F-8221982A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AD0-C208-44CA-99B6-98267EA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085-B720-48EA-B69D-1AF3BAF8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6CB-EDD9-4303-82BE-F17121BD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884-56D7-40BD-A7D5-D085AB5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2AC-2FDA-45EA-BAAA-2EA1DAC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4A3-F4DB-430B-AA56-2A58C1E5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88E-1D45-47AC-9E7C-F170F681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AD5-EE6D-4AD4-8181-A575C065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B30-A68B-41AA-9D8C-3562CDC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AEB-C680-42D0-82F8-64588D45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70C-24D2-4396-9897-50C0453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46E-C92B-4A70-AE6D-99FB39F1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Who Are Our Lead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108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0_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35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our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princip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Webb Element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name is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Dr. Amber Ep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380880" y="2286000"/>
            <a:ext cx="9867960" cy="2301840"/>
            <a:chOff x="-380880" y="2286000"/>
            <a:chExt cx="9867960" cy="2301840"/>
          </a:xfrm>
        </p:grpSpPr>
        <p:sp>
          <p:nvSpPr>
            <p:cNvPr id="79" name=""/>
            <p:cNvSpPr/>
            <p:nvPr/>
          </p:nvSpPr>
          <p:spPr>
            <a:xfrm>
              <a:off x="-380880" y="2286000"/>
              <a:ext cx="986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-380880" y="2286000"/>
              <a:ext cx="8088480" cy="2301840"/>
              <a:chOff x="-380880" y="2286000"/>
              <a:chExt cx="8088480" cy="2301840"/>
            </a:xfrm>
          </p:grpSpPr>
          <p:sp>
            <p:nvSpPr>
              <p:cNvPr id="81" name=""/>
              <p:cNvSpPr/>
              <p:nvPr/>
            </p:nvSpPr>
            <p:spPr>
              <a:xfrm>
                <a:off x="-380880" y="2286000"/>
                <a:ext cx="808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380880" y="2286000"/>
                <a:ext cx="8088480" cy="23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3333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Arial"/>
                  </a:rPr>
                  <a:t>  </a:t>
                </a:r>
                <a:r>
                  <a:rPr b="0" lang="en-US" sz="12100" spc="-1" strike="noStrike">
                    <a:solidFill>
                      <a:srgbClr val="333333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Arial"/>
                  </a:rPr>
                  <a:t>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3333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3" name="amber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ou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ssistant princip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Webb Element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r. Kyle Luth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think of some rules you have at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Kyle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4127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authority figure for the city of McKinne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39080" y="7010280"/>
            <a:ext cx="609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285251" descr=""/>
          <p:cNvPicPr/>
          <p:nvPr/>
        </p:nvPicPr>
        <p:blipFill>
          <a:blip r:embed="rId1"/>
          <a:stretch/>
        </p:blipFill>
        <p:spPr>
          <a:xfrm>
            <a:off x="1806480" y="1981080"/>
            <a:ext cx="53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Mayor of McKinne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Mr. Bill Whitfiel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74960" y="2709720"/>
            <a:ext cx="1595520" cy="1417680"/>
            <a:chOff x="3774960" y="2709720"/>
            <a:chExt cx="1595520" cy="1417680"/>
          </a:xfrm>
        </p:grpSpPr>
        <p:sp>
          <p:nvSpPr>
            <p:cNvPr id="93" name=""/>
            <p:cNvSpPr/>
            <p:nvPr/>
          </p:nvSpPr>
          <p:spPr>
            <a:xfrm>
              <a:off x="3774960" y="270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74960" y="2709720"/>
              <a:ext cx="15955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  </a:t>
              </a:r>
              <a:r>
                <a:rPr b="0" lang="en-US" sz="8700" spc="-1" strike="noStrike">
                  <a:solidFill>
                    <a:srgbClr val="6e2a1d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whitfield1" descr=""/>
          <p:cNvPicPr/>
          <p:nvPr/>
        </p:nvPicPr>
        <p:blipFill>
          <a:blip r:embed="rId1"/>
          <a:stretch/>
        </p:blipFill>
        <p:spPr>
          <a:xfrm>
            <a:off x="5067360" y="198108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09720" y="609480"/>
            <a:ext cx="304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yor Whitfield works with others on the McKin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ity Counci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5562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2" marL="879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hink of some rules or laws that the city of McKinney migh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40160" y="2149560"/>
            <a:ext cx="4065480" cy="2500200"/>
            <a:chOff x="2540160" y="2149560"/>
            <a:chExt cx="4065480" cy="2500200"/>
          </a:xfrm>
        </p:grpSpPr>
        <p:sp>
          <p:nvSpPr>
            <p:cNvPr id="100" name=""/>
            <p:cNvSpPr/>
            <p:nvPr/>
          </p:nvSpPr>
          <p:spPr>
            <a:xfrm>
              <a:off x="2540160" y="2149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0160" y="2149560"/>
              <a:ext cx="4065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  </a:t>
              </a:r>
              <a:r>
                <a:rPr b="0" lang="en-US" sz="15800" spc="-1" strike="noStrike">
                  <a:solidFill>
                    <a:srgbClr val="6e2a1d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McKCouncil2" descr=""/>
          <p:cNvPicPr/>
          <p:nvPr/>
        </p:nvPicPr>
        <p:blipFill>
          <a:blip r:embed="rId1"/>
          <a:stretch/>
        </p:blipFill>
        <p:spPr>
          <a:xfrm>
            <a:off x="304920" y="1539720"/>
            <a:ext cx="502920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is the authority figure for the state of Tex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92440" y="1981080"/>
          <a:ext cx="36813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1981080"/>
                    <a:ext cx="3681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48920" y="4648320"/>
            <a:ext cx="457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overnor of Texa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 name is Governor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ick Per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0" y="24685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219400"/>
            <a:ext cx="3809880" cy="363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019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some rules for the state of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authority figure for the United States of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1371600" y="5105160"/>
            <a:ext cx="838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35120" y="2666880"/>
          <a:ext cx="5948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5120" y="2666880"/>
                    <a:ext cx="5948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sident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resident George W. Bus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some of the rules or laws for the United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524880" y="1608120"/>
            <a:ext cx="152640" cy="4487040"/>
            <a:chOff x="9524880" y="1608120"/>
            <a:chExt cx="152640" cy="4487040"/>
          </a:xfrm>
        </p:grpSpPr>
        <p:sp>
          <p:nvSpPr>
            <p:cNvPr id="121" name=""/>
            <p:cNvSpPr/>
            <p:nvPr/>
          </p:nvSpPr>
          <p:spPr>
            <a:xfrm flipH="1">
              <a:off x="9524880" y="16081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9524880" y="1608120"/>
              <a:ext cx="152640" cy="4487040"/>
              <a:chOff x="9524880" y="1608120"/>
              <a:chExt cx="152640" cy="44870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9524880" y="16081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9524880" y="1608120"/>
                <a:ext cx="152640" cy="448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  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eorge W. Bush                                            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5" name="300-p25695-23" descr="Official portrait of President George W. Bush."/>
          <p:cNvPicPr/>
          <p:nvPr/>
        </p:nvPicPr>
        <p:blipFill>
          <a:blip r:embed="rId3"/>
          <a:stretch/>
        </p:blipFill>
        <p:spPr>
          <a:xfrm>
            <a:off x="965160" y="1981080"/>
            <a:ext cx="3124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to see if you learned your authority fig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4495680" y="68580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j0365168" descr=""/>
          <p:cNvPicPr/>
          <p:nvPr/>
        </p:nvPicPr>
        <p:blipFill>
          <a:blip r:embed="rId2"/>
          <a:stretch/>
        </p:blipFill>
        <p:spPr>
          <a:xfrm>
            <a:off x="3227400" y="2438280"/>
            <a:ext cx="322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520" y="837720"/>
            <a:ext cx="5791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We have authority figures at home, in our school, community, state and count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might know a few of the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86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969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whitfield1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3246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7242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mber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95360"/>
            <a:ext cx="38098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300-p25695-23" descr="Official portrait of President George W. Bush."/>
          <p:cNvPicPr/>
          <p:nvPr/>
        </p:nvPicPr>
        <p:blipFill>
          <a:blip r:embed="rId2"/>
          <a:stretch/>
        </p:blipFill>
        <p:spPr>
          <a:xfrm>
            <a:off x="3065400" y="457200"/>
            <a:ext cx="30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ow a little quiz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. Epper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whitfield1" descr=""/>
          <p:cNvPicPr/>
          <p:nvPr/>
        </p:nvPicPr>
        <p:blipFill>
          <a:blip r:embed="rId2"/>
          <a:stretch/>
        </p:blipFill>
        <p:spPr>
          <a:xfrm>
            <a:off x="1104840" y="198108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ick Per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300-p25695-23" descr="Official portrait of President George W. Bush."/>
          <p:cNvPicPr/>
          <p:nvPr/>
        </p:nvPicPr>
        <p:blipFill>
          <a:blip r:embed="rId2"/>
          <a:stretch/>
        </p:blipFill>
        <p:spPr>
          <a:xfrm>
            <a:off x="5046840" y="1981080"/>
            <a:ext cx="301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ick Per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1940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rs. Cla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r. Ep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amber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r.  Ep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r. Luth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Kyle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8862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are learning more about authority figur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05560" y="6095520"/>
            <a:ext cx="152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j0336394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an authority fig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395769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2971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 authority figure is a person or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whom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52680" y="266652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Have the power to command or… be the leader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96840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2394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Listens to others when making good cho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533880" y="6095880"/>
            <a:ext cx="1219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G00520_" descr=""/>
          <p:cNvPicPr/>
          <p:nvPr/>
        </p:nvPicPr>
        <p:blipFill>
          <a:blip r:embed="rId1"/>
          <a:stretch/>
        </p:blipFill>
        <p:spPr>
          <a:xfrm>
            <a:off x="685800" y="2425680"/>
            <a:ext cx="3352680" cy="3225960"/>
          </a:xfrm>
          <a:prstGeom prst="rect">
            <a:avLst/>
          </a:prstGeom>
          <a:ln w="0">
            <a:noFill/>
          </a:ln>
        </p:spPr>
      </p:pic>
      <p:pic>
        <p:nvPicPr>
          <p:cNvPr id="55" name="AG00519_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276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Decides on the rules and laws</a:t>
            </a: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448560" y="1981080"/>
            <a:ext cx="22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96834" descr=""/>
          <p:cNvPicPr/>
          <p:nvPr/>
        </p:nvPicPr>
        <p:blipFill>
          <a:blip r:embed="rId1"/>
          <a:stretch/>
        </p:blipFill>
        <p:spPr>
          <a:xfrm>
            <a:off x="2895480" y="1974960"/>
            <a:ext cx="47246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49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-762120"/>
            <a:ext cx="4267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83031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990720"/>
            <a:ext cx="365760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akes  sure you follow 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nforce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the rules and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the authority figures at your hou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name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295212" descr=""/>
          <p:cNvPicPr/>
          <p:nvPr/>
        </p:nvPicPr>
        <p:blipFill>
          <a:blip r:embed="rId1"/>
          <a:stretch/>
        </p:blipFill>
        <p:spPr>
          <a:xfrm>
            <a:off x="4886280" y="1981080"/>
            <a:ext cx="333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the authority figures at Webb Elementa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8920" y="1981080"/>
            <a:ext cx="38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leaders in our school that help us develop rules, procedures and provide for the teachers, students, and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-2286000" y="2438280"/>
            <a:ext cx="533520" cy="2209680"/>
            <a:chOff x="-2286000" y="2438280"/>
            <a:chExt cx="533520" cy="2209680"/>
          </a:xfrm>
        </p:grpSpPr>
        <p:sp>
          <p:nvSpPr>
            <p:cNvPr id="69" name=""/>
            <p:cNvSpPr/>
            <p:nvPr/>
          </p:nvSpPr>
          <p:spPr>
            <a:xfrm flipH="1">
              <a:off x="-2286000" y="24382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-2026800" y="2438280"/>
              <a:ext cx="274320" cy="2209680"/>
              <a:chOff x="-2026800" y="2438280"/>
              <a:chExt cx="274320" cy="2209680"/>
            </a:xfrm>
          </p:grpSpPr>
          <p:sp>
            <p:nvSpPr>
              <p:cNvPr id="71" name=""/>
              <p:cNvSpPr/>
              <p:nvPr/>
            </p:nvSpPr>
            <p:spPr>
              <a:xfrm flipH="1">
                <a:off x="-2026800" y="2438280"/>
                <a:ext cx="274320" cy="2209680"/>
              </a:xfrm>
              <a:prstGeom prst="rect">
                <a:avLst/>
              </a:prstGeom>
              <a:solidFill>
                <a:srgbClr val="e4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-2026800" y="2438280"/>
                <a:ext cx="274320" cy="2209680"/>
                <a:chOff x="-2026800" y="2438280"/>
                <a:chExt cx="274320" cy="2209680"/>
              </a:xfrm>
            </p:grpSpPr>
            <p:sp>
              <p:nvSpPr>
                <p:cNvPr id="73" name=""/>
                <p:cNvSpPr/>
                <p:nvPr/>
              </p:nvSpPr>
              <p:spPr>
                <a:xfrm flipH="1">
                  <a:off x="-2026800" y="2438280"/>
                  <a:ext cx="274320" cy="360"/>
                </a:xfrm>
                <a:prstGeom prst="rect">
                  <a:avLst/>
                </a:prstGeom>
                <a:solidFill>
                  <a:srgbClr val="e4e5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-2026800" y="2438280"/>
                  <a:ext cx="274320" cy="2209680"/>
                </a:xfrm>
                <a:prstGeom prst="rect">
                  <a:avLst/>
                </a:prstGeom>
                <a:solidFill>
                  <a:srgbClr val="e4e5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3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5" name="IMG_057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3:26:53Z</dcterms:created>
  <dc:creator>MISD</dc:creator>
  <dc:description/>
  <dc:language>en-US</dc:language>
  <cp:lastModifiedBy>Mckinney ISD</cp:lastModifiedBy>
  <dcterms:modified xsi:type="dcterms:W3CDTF">2008-10-15T18:19:15Z</dcterms:modified>
  <cp:revision>5</cp:revision>
  <dc:subject/>
  <dc:title>Who Are Our Leaders?</dc:title>
</cp:coreProperties>
</file>